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191120" y="4800600"/>
            <a:ext cx="463536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3683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72640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080" y="1625760"/>
            <a:ext cx="5879880" cy="3047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2080" y="5181120"/>
            <a:ext cx="587988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244520" y="4800600"/>
            <a:ext cx="4635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0000"/>
          </a:bodyPr>
          <a:p>
            <a:pPr marL="55116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1268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8140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95012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1884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1884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18840" indent="-3384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4000"/>
          </a:bodyPr>
          <a:p>
            <a:pPr marL="546120" indent="-3236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10263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51596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20055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400680" indent="-2376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5348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11276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47204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17880" y="2488680"/>
            <a:ext cx="421668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377640" indent="-2239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09920" indent="-222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048320" indent="-2224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386720" indent="-222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725120" indent="-2224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725120" indent="-2224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725120" indent="-2224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269720" y="914040"/>
            <a:ext cx="10464840" cy="792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55728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2384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9796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97172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4584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4584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45840" indent="-34200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400680" indent="-2376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5348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11276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47204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45720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oefler Text"/>
              </a:rPr>
              <a:t>Work Smarter, Not Harder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45720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oefler Text"/>
              </a:rPr>
              <a:t>Using Technology Tools to Improve Writing Instruction</a:t>
            </a:r>
            <a:endParaRPr b="0" lang="en-US" sz="3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4" name=""/>
          <p:cNvSpPr/>
          <p:nvPr/>
        </p:nvSpPr>
        <p:spPr>
          <a:xfrm>
            <a:off x="2464560" y="6969240"/>
            <a:ext cx="75294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  <a:ea typeface="Hoefler Text"/>
              </a:rPr>
              <a:t>Presented by: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  <a:ea typeface="Hoefler Text"/>
              </a:rPr>
              <a:t>Valerie Mattessich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  <a:ea typeface="Hoefler Text"/>
              </a:rPr>
              <a:t>Pascack Valley High Schoo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  <a:ea typeface="Hoefler Text"/>
              </a:rPr>
              <a:t>February 5, 2011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Google Doc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ypes of assignments/tasks to use with this tool: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69704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Group writing activitie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69704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Peer review of writing activitie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69704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Revision of writing pieces: teacher-to-student feedback on draft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Nuts and Bolts “Stuff”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4000"/>
          </a:bodyPr>
          <a:p>
            <a:pPr marL="557280" indent="-3157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How can I give objective assessments (vocabulary, during and post-reading) and have them scored quickly and with immediate feedback to students?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57280" indent="-315720">
              <a:spcBef>
                <a:spcPts val="3124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How can I anticipate student needs, determine direction for future lessons, and get data on student opinion and prior knowledge?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marL="557280" indent="-315720">
              <a:spcBef>
                <a:spcPts val="3124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How can students become more interacive with their school and local communities by soliciting data from such groups to create original products? 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Quia.com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7061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2000"/>
          </a:bodyPr>
          <a:p>
            <a:pPr marL="54396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Useful features of this tool: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39140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reate quizzes that are automatically scored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39140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reate surveys for students or staff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39140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reate study/review activities for student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39140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Use activities created by other teacher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391400" indent="-30816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reate assessments that you score yourself, e.g. open response question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Student Self-Direction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89512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2352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students become more interactive themselves and with each other during learning/studying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I encourage students to incorporate active study methods into their daily/weekly routines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2352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I build in “forced review” without having to create a bunch of games/activities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Quizlet.com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3000"/>
          </a:bodyPr>
          <a:p>
            <a:pPr marL="550440" indent="-312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tudents use this tool to: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08320" indent="-312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reate flash cards for learning new conten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08320" indent="-312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hare flash cards with groups/friends for helpful collaborative study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08320" indent="-312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play study games to learn material and for review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408320" indent="-312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ake sample quizzes on content as review/learning too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Research Databas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656640" indent="-3722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Students use these tools to: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lvl="2" marL="1679760" indent="-3722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access credible, vetted, and recent content for use in discussion, debate, essays or projects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lvl="2" marL="1679760" indent="-3722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keep material stored in one area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  <a:p>
            <a:pPr lvl="2" marL="1679760" indent="-3722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22c"/>
                </a:solidFill>
                <a:latin typeface="Hoefler Text"/>
              </a:rPr>
              <a:t>access library materials from school, home or virtually anywhere</a:t>
            </a:r>
            <a:endParaRPr b="0" lang="en-US" sz="3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Research Database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489040"/>
            <a:ext cx="10464840" cy="718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8000"/>
          </a:bodyPr>
          <a:p>
            <a:pPr marL="583560" indent="-3308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22c"/>
                </a:solidFill>
                <a:latin typeface="Hoefler Text"/>
              </a:rPr>
              <a:t>Advantages of these tools:</a:t>
            </a:r>
            <a:endParaRPr b="0" lang="en-US" sz="3500" spc="-1" strike="noStrike">
              <a:solidFill>
                <a:srgbClr val="44422c"/>
              </a:solidFill>
              <a:latin typeface="Hoefler Text"/>
            </a:endParaRPr>
          </a:p>
          <a:p>
            <a:pPr lvl="2" marL="1493280" indent="-3308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22c"/>
                </a:solidFill>
                <a:latin typeface="Hoefler Text"/>
              </a:rPr>
              <a:t>ability to “bookmark” material within site</a:t>
            </a:r>
            <a:endParaRPr b="0" lang="en-US" sz="3500" spc="-1" strike="noStrike">
              <a:solidFill>
                <a:srgbClr val="44422c"/>
              </a:solidFill>
              <a:latin typeface="Hoefler Text"/>
            </a:endParaRPr>
          </a:p>
          <a:p>
            <a:pPr lvl="2" marL="1493280" indent="-3308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22c"/>
                </a:solidFill>
                <a:latin typeface="Hoefler Text"/>
              </a:rPr>
              <a:t>access to proper citation information</a:t>
            </a:r>
            <a:endParaRPr b="0" lang="en-US" sz="3500" spc="-1" strike="noStrike">
              <a:solidFill>
                <a:srgbClr val="44422c"/>
              </a:solidFill>
              <a:latin typeface="Hoefler Text"/>
            </a:endParaRPr>
          </a:p>
          <a:p>
            <a:pPr lvl="2" marL="1493280" indent="-3308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22c"/>
                </a:solidFill>
                <a:latin typeface="Hoefler Text"/>
              </a:rPr>
              <a:t>allows for teachable moments around citation, need for most recent content on a given topic, credibility/critical evaluation of sources</a:t>
            </a:r>
            <a:endParaRPr b="0" lang="en-US" sz="3500" spc="-1" strike="noStrike">
              <a:solidFill>
                <a:srgbClr val="44422c"/>
              </a:solidFill>
              <a:latin typeface="Hoefler Text"/>
            </a:endParaRPr>
          </a:p>
          <a:p>
            <a:pPr lvl="2" marL="1493280" indent="-33084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22c"/>
                </a:solidFill>
                <a:latin typeface="Hoefler Text"/>
              </a:rPr>
              <a:t>subject/topic specific--cuts down on wasted time</a:t>
            </a:r>
            <a:endParaRPr b="0" lang="en-US" sz="35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Interactive Writing/Conten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Where can students create original content, conduct discussions and form a virtual community that extends our classroom outside the walls of our school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Ning.com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7086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636840" indent="-36108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4422c"/>
                </a:solidFill>
                <a:latin typeface="Hoefler Text"/>
              </a:rPr>
              <a:t>Students and teachers can use this tool to: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lvl="2" marL="1629000" indent="-36108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4422c"/>
                </a:solidFill>
                <a:latin typeface="Hoefler Text"/>
              </a:rPr>
              <a:t>encourage writing-to-learn activities via  discussion posts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lvl="2" marL="1629000" indent="-36108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4422c"/>
                </a:solidFill>
                <a:latin typeface="Hoefler Text"/>
              </a:rPr>
              <a:t>write for immediate publication on individual blogs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lvl="2" marL="1629000" indent="-36108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4422c"/>
                </a:solidFill>
                <a:latin typeface="Hoefler Text"/>
              </a:rPr>
              <a:t>create a sense of community, key to any successful writing classroom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lvl="2" marL="1629000" indent="-36108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4422c"/>
                </a:solidFill>
                <a:latin typeface="Hoefler Text"/>
              </a:rPr>
              <a:t>Best of all, this activity takes place IN ONE CENTRAL LOCATION</a:t>
            </a: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  <a:p>
            <a:pPr lvl="2" marL="1629000" indent="0">
              <a:spcBef>
                <a:spcPts val="3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omic Lif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489040"/>
            <a:ext cx="10464840" cy="717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4000"/>
          </a:bodyPr>
          <a:p>
            <a:pPr marL="62352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22c"/>
                </a:solidFill>
                <a:latin typeface="Hoefler Text"/>
              </a:rPr>
              <a:t>This tool can be used to: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lvl="2" marL="159516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22c"/>
                </a:solidFill>
                <a:latin typeface="Hoefler Text"/>
              </a:rPr>
              <a:t>enhance vocabulary or other content-specific learning in terms of retention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lvl="2" marL="159516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22c"/>
                </a:solidFill>
                <a:latin typeface="Hoefler Text"/>
              </a:rPr>
              <a:t>as a vehicle for pre-writing/planning prior to a formal written piece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lvl="2" marL="159516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22c"/>
                </a:solidFill>
                <a:latin typeface="Hoefler Text"/>
              </a:rPr>
              <a:t>create visual content to accompany written pieces by students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lvl="2" marL="1595160" indent="-3535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4422c"/>
                </a:solidFill>
                <a:latin typeface="Hoefler Text"/>
              </a:rPr>
              <a:t>create visual content to extend interpretation of </a:t>
            </a:r>
            <a:r>
              <a:rPr b="0" lang="en-US" sz="3100" spc="-1" strike="noStrike">
                <a:solidFill>
                  <a:srgbClr val="44422c"/>
                </a:solidFill>
                <a:latin typeface="Hoefler Text"/>
              </a:rPr>
              <a:t>published texts under examination in class</a:t>
            </a:r>
            <a:endParaRPr b="0" lang="en-US" sz="31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02960" y="-330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How I Arrived Her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6" name=""/>
          <p:cNvSpPr/>
          <p:nvPr/>
        </p:nvSpPr>
        <p:spPr>
          <a:xfrm>
            <a:off x="88920" y="914400"/>
            <a:ext cx="334008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oefler Text"/>
                <a:ea typeface="Hoefler Text"/>
              </a:rPr>
              <a:t>I hate lugging this pile of crunched, sloppy paper around!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7" name=""/>
          <p:cNvSpPr/>
          <p:nvPr/>
        </p:nvSpPr>
        <p:spPr>
          <a:xfrm>
            <a:off x="8724960" y="1155600"/>
            <a:ext cx="3454200" cy="2616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oefler Text"/>
                <a:ea typeface="Hoefler Text"/>
              </a:rPr>
              <a:t>There’s got to be a better way to “grade” vocab quizzes than this...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159600"/>
            <a:ext cx="5130720" cy="2692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oefler Text"/>
                <a:ea typeface="Hoefler Text"/>
              </a:rPr>
              <a:t>Those gross paper portfolios that just collect dust on the floor of my classroom have got to go!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9" name=""/>
          <p:cNvSpPr/>
          <p:nvPr/>
        </p:nvSpPr>
        <p:spPr>
          <a:xfrm>
            <a:off x="7074000" y="5384880"/>
            <a:ext cx="5930640" cy="247644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oefler Text"/>
                <a:ea typeface="Hoefler Text"/>
              </a:rPr>
              <a:t>I wish I could duplicate those same comments I always write on students’ papers...but I hate those editing symbols!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4622760" y="312408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he Inspiration to Chang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870280"/>
            <a:ext cx="5613120" cy="3619440"/>
          </a:xfrm>
          <a:prstGeom prst="wedgeEllipseCallout">
            <a:avLst>
              <a:gd name="adj1" fmla="val -74662"/>
              <a:gd name="adj2" fmla="val 45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oefler Text"/>
                <a:ea typeface="Hoefler Text"/>
              </a:rPr>
              <a:t>There are so many web sites out there for teachers...there must be something I can do with them to make my life easier and my teaching better!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1595520" y="6311880"/>
            <a:ext cx="418284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he Mantra</a:t>
            </a: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	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e more time I free up by using technology tools, the more time I have to focus on building my teaching strategies, my content knowledge, or assigning &amp; assessing more meaningful writing projects.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he Subsequent Hop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Administrators want to increase teacher productivity and student learning, and will therefore see purchasing schoolwide subscriptions to various technological tools as valuable for teachers and students.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44422c"/>
                </a:solidFill>
                <a:latin typeface="Hoefler Text"/>
              </a:rPr>
              <a:t>Technology Tools That Help You Help You and Your Students</a:t>
            </a:r>
            <a:endParaRPr b="0" lang="en-US" sz="55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489040"/>
            <a:ext cx="10464840" cy="7290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urnitin.com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Google Doc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Quia.com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Quizlet.com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Library Research Databases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Ning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omic Life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Assessing Writing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to make grading/evaluating faster and more efficient for me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I create a student portfolio online, whereby all written products are easily accessible, with scores and feedback, in one space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urnitin.com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Known primarily for plagiarism prevention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Even MORE useful for the writing process and cycle of feedback and reflection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Key features of tool: GradeMark, PeerMark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ollaboration in Writing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I encourage frequent revision of writing without having to pass an increasingly sloppy piece of paper back and forth to a student multiple times? 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How can I encourage collaborative student writing more easily, effectively and frequently?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End User</cp:lastModifiedBy>
  <dcterms:modified xsi:type="dcterms:W3CDTF">2011-03-25T15:31:59Z</dcterms:modified>
  <cp:revision>1</cp:revision>
  <dc:subject/>
  <dc:title>Work Smarter, Not Harder</dc:title>
</cp:coreProperties>
</file>